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BC1-47D3-4C70-BC01-BFE7FC33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0532-975A-4C07-831A-AB037EA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918-0555-4DED-90A3-52FE50C5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A48-2BDD-4928-BEED-553B4476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B3C-9FF7-4BD9-8F8E-D5CE51F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FB8-3AAB-422F-8A2B-22F2CAFC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515-8C8E-4042-9B40-BEF7C65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5085-A78E-4F58-8A4B-46699DB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9E5-4BB3-475F-B3E6-5CEAEDE1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C14-0473-4FE5-A491-2E615D18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D3D-28A0-4C52-8866-843C834F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231-9265-45C5-8231-1307B374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FAA-07A5-47D5-9099-0BCAB5C5D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12.xml"/><Relationship Id="rId6" Type="http://schemas.openxmlformats.org/officeDocument/2006/relationships/slide" Target="slide5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imulate U.S. imperi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rst for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conom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a new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cheap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 organized a guerrilla campaig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troy American-owned property in Cuba in ord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ok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vention in Cu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ive mone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or Cuban 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liate against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olvement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over family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 U.S.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 organized a guerrilla campaig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troy American-owned property in Cuba in ord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ok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vention in Cu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aliate against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olvement in 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of the following countries came under some for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control as a result of the Spanish-American W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of the following countries came under some form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control as a result of the Spanish-American Wa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wa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l John J. Pershing led a force of fifteen thou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diers in an attempt to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sé Mar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ano Zap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cho V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o Aquin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eral John J. Pershing led a force of fifteen thous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diers in an attempt to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ncho V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ilio Aquin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Rebellion was an atte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Chinese revolutionar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tore the Manch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ynas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democra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Commun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 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fluence from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Rebellion was an attem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Chinese revolutionar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up a democrat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overnment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 fore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fluence from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 gained control of th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 needed to build the Panama Canal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porting Panaman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vad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acking 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gotiating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United States gained control of the l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 needed to build the Panama Canal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porting Panaman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mplement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 what did the Roosevelt Corollary bui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en Door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roe Doct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y-Pauncefote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n what did the Roosevelt Corollary bui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nroe Doct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y-Pauncefote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reason for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 enter the Spanish-Americ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osion of the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M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 Lôm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 jour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ws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ain’s threat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was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a reason for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 enter the Spanish-American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 Lôm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ain’s threat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S. s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ist that Cuba include in its constit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Boxer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Te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oosev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ro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sist that Cuba include in its constit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Platt Amend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oosevel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rol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sevelt's approach to foreign policy reflected the prove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peak softly and carry a big stick"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allowed U.S. troops to beat fore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tives for breaking U.S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gotiations were always b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y the threat of military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studied West African metho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negotiating with foreign pow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s soft-spoken personality m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ign leaders trust and admire hi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oosevelt's approach to foreign policy reflected the prover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peak softly and carry a big stick"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8580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 allowed U.S. troops to beat fore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tives for breaking U.S.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gotiations were always back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y the threat of military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Open Door Policy was designed as a way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ted States to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s desires to ann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ign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plo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establish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mocratic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s trade inter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Open Door Policy was designed as a way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ted States to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n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plo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800600" y="5486400"/>
            <a:ext cx="3505320" cy="762120"/>
            <a:chOff x="4800600" y="5486400"/>
            <a:chExt cx="3505320" cy="762120"/>
          </a:xfrm>
        </p:grpSpPr>
        <p:sp>
          <p:nvSpPr>
            <p:cNvPr id="553" name=""/>
            <p:cNvSpPr/>
            <p:nvPr/>
          </p:nvSpPr>
          <p:spPr>
            <a:xfrm>
              <a:off x="4800600" y="57150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6920" y="5486400"/>
              <a:ext cx="3429000" cy="7621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its trade intere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00600" y="56386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apid growth of industry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ed fuel imperialism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 needed unspoiled pla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ts workers to va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ns had more time to re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bout foreign pl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was producing t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goods for its own people to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4" action="ppaction://hlinksldjump"/>
          </p:cNvPr>
          <p:cNvSpPr/>
          <p:nvPr/>
        </p:nvSpPr>
        <p:spPr>
          <a:xfrm>
            <a:off x="49528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ns wanted to take over 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tories and learn their secr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rapid growth of industry in the United St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elped fuel imperialism 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merica needed unspoiled pla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its workers to va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 was producing t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y goods for its own people to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was the purpose of the Foraker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military rule and set up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in Puerto 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rant Puerto Rican resid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.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ive Cuba and Puerto Rico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United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the Puerto Rican upri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at was the purpose of the Foraker 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end military rule and set up civ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overnment in Puerto R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 grant Puerto Rican resid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. citize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following statements, the one that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flects an anti-imperialist attitu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expansion of our trad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erce is the pressing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 there no nation wise enough, b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ough to aid this blood-smitten 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te has written our policy for u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trade of the world shall be ou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not necessary to ow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ople to trade with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the following statements, the one that b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flects an anti-imperialist attitud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 there no nation wise enough, b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ough to aid this blood-smitten la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not necessary to ow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ople to trade with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 of the following d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imulate U.S. imperialis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rst for n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conom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ed for a new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cheap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si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ilitary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belief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ultural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7-02-01T12:34:49Z</dcterms:modified>
  <cp:revision>245</cp:revision>
  <dc:subject/>
  <dc:title>PowerPoint Presentation</dc:title>
</cp:coreProperties>
</file>